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F27B8-8E16-4957-A718-5AD1E943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4204-11BF-44D3-B491-C400FBD1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AECF-0BEE-4726-B4F2-6B9A4770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CCF8-A589-4E61-A061-E1C16FC1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FF52-5299-4EB5-B878-D0244CE1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B56C-5298-4C89-93DC-EC2233C0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3FA6-8303-4735-BA73-7491DF62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A7EE-D141-4C06-A683-7A8C42A8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6D96-CC00-408E-B1BA-C8C25425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FF26-3A75-4952-A05C-179AB68D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99E9-1393-40B8-84AD-AB32B9A8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B59BF-1EFC-4D2E-A2C7-7EB61FB6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5415-E75B-47BA-B05C-C9A01066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98A9-6C85-4BBE-A7A8-DACB4471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5D72-E182-48EB-BF2E-034FDCDF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4779-E134-4727-9B50-3FA51D89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095A-F6DF-416B-ACC8-03C184CF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E91D-5D7C-4904-8C68-0AB559F0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E7B0-9127-4E92-95B1-1299C00C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9AEC-19D0-4CD0-9857-6428329B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93D1-FA83-4BB4-84ED-AD130C46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061E-033F-422E-974D-90171E9E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09C9-DCD7-4A7B-A57C-06582610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A6CA-A8BC-44C6-A02B-17041CB3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89B4-0AA1-47AB-A405-B8CD7FF21B5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F6E8-3E51-40B9-9A66-079D5116488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47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.12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Тебе, о, душе моя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рси Бог да привлеч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ти шепне Той сега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Любиш ли Ме, грешниче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китниче, заблуден в грях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търсих те в тъмни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ред мрака те огрях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Мойта сияйна светлин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Скоро славата Мо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ще видиш на неб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те взема у дом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Любиш ли Ме, грешниче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Нежна майка може л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рожба своя няког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забрави? Може б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ебе Аз - о, никога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. О, Исусе, любя Т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 безсилен съм, ув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з любов, о, мил Христ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-голяма направ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7T16:43:04Z</dcterms:modified>
  <cp:revision>182</cp:revision>
  <dc:subject/>
  <dc:title>Slide 1</dc:title>
</cp:coreProperties>
</file>